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4080-D07C-40D0-8D25-41A240EF2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search engine watch, a site with information on all available search engines, there are more than 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2693-86D8-4C8A-BE89-A94A4507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36A-794C-4B43-B03D-2D0B5618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ADC-0AB7-424B-9915-121837FB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17B6-1A0A-4128-826A-4EE5094B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06E7-C704-4AB6-BF20-FDB3F374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7F82-265F-48B7-8D7F-AF984611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A26C-CA40-4455-81E1-EA3F2CAF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916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D97C-74A4-4D0C-86DC-5F9AB3D6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606F-E54C-489D-BBA7-905E211F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02AC-CF44-4A1F-8728-C3A967FD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916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EEA2-CC65-4AC1-9259-CDFF8A88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D7B6-55EF-408B-A9EA-AD9B9E3E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916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916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DC3C-6F58-40C3-B59A-7EB4A8A1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916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3751-23FB-495C-BF08-ADE66EFF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A543-BB4E-4E18-9CE2-5F081443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916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916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A76F-38DA-413E-82F4-214AC67C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456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70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456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70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6659-3549-41FC-BF23-24CC6858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575-5C36-4B50-AA3A-02269660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BA67-EC58-4A75-BEBC-2F591C54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C44B-DE24-41A3-BE06-208C077F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347-9FB9-44B1-8530-43C4840F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03C-108D-48FA-B389-BEEF6010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9F9-A1EE-4B6D-B664-94B9DF33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A3DB-2E3A-4D1D-971D-8EDED71D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E727-A38A-4DE4-AFB4-B534C5E7FBB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581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6B68-939D-4573-BCC7-CC37232A060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archenginewatch.com/3634991" TargetMode="External"/><Relationship Id="rId3" Type="http://schemas.openxmlformats.org/officeDocument/2006/relationships/hyperlink" Target="http://searchenginewatch.com/3634923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Distance Learning Too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Role of Internet in Education</a:t>
            </a: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4419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kes University – Emerging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thy W. Dow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6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Brief History of the Internet</a:t>
            </a: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ebrating 4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 vs.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Brow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aic – first web brows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efox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net Explor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far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ather"/>
              </a:rPr>
              <a:t>URL (</a:t>
            </a:r>
            <a:r>
              <a:rPr b="0" lang="en-US" sz="3200" spc="-1" strike="noStrike">
                <a:solidFill>
                  <a:srgbClr val="000000"/>
                </a:solidFill>
                <a:latin typeface="Heather"/>
              </a:rPr>
              <a:t>Uniform Resource Locators</a:t>
            </a:r>
            <a:r>
              <a:rPr b="0" lang="en-US" sz="3600" spc="-1" strike="noStrike">
                <a:solidFill>
                  <a:srgbClr val="000000"/>
                </a:solidFill>
                <a:latin typeface="Heather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Heather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3637" r="1820" b="66063"/>
          <a:stretch/>
        </p:blipFill>
        <p:spPr>
          <a:xfrm>
            <a:off x="457200" y="1371600"/>
            <a:ext cx="8229600" cy="190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33720" y="3276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://www.nasa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00440" y="379584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380988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380988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419720"/>
            <a:ext cx="312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government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12._.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ublic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military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4422600"/>
            <a:ext cx="3124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d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Search Engines</a:t>
            </a: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jor search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aho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k Network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acraw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gp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ust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tBo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arto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m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searchenginewatch.com/363499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searchenginewatch.com/3634923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rcRect l="1454" t="21544" r="2872" b="17296"/>
          <a:stretch/>
        </p:blipFill>
        <p:spPr>
          <a:xfrm>
            <a:off x="3962520" y="1905120"/>
            <a:ext cx="4817880" cy="2309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Videoconferencing/e-learning</a:t>
            </a: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and h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kype, NetMeeting, Yahoo! Messenger, iCh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igh-speed connection advise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more in higher education that K-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-12 is starting to be more comm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ex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ree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ToMeeting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ree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umin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– free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, Wimba, Blackboard, WebCT, Digital Chalk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ather"/>
              </a:rPr>
              <a:t>Engaging Collaborative Activities</a:t>
            </a:r>
            <a:endParaRPr b="0" lang="en-US" sz="36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learning t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ctivities inter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settle for opin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 a delive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what you’re aiming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eer gr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Presentations</a:t>
            </a: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93348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ing our Kids Safe on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rah and Jennifer V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Effectiveness of Distanc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y and EJ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tfalls of Internet Use and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ephanie and Vi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ng on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enn M. and Heath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iqu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a and Tiffan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Bookma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th and Jennifer 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right and Plagiarism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nnon and Am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23:40:16Z</dcterms:created>
  <dc:creator>Customer</dc:creator>
  <dc:description/>
  <dc:language>en-US</dc:language>
  <cp:lastModifiedBy>Customer</cp:lastModifiedBy>
  <dcterms:modified xsi:type="dcterms:W3CDTF">2009-11-01T23:32:42Z</dcterms:modified>
  <cp:revision>30</cp:revision>
  <dc:subject/>
  <dc:title>Slide 1</dc:title>
</cp:coreProperties>
</file>